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4.png" ContentType="image/png"/>
  <Override PartName="/ppt/media/image34.jpeg" ContentType="image/jpeg"/>
  <Override PartName="/ppt/media/image28.jpeg" ContentType="image/jpeg"/>
  <Override PartName="/ppt/media/image11.png" ContentType="image/png"/>
  <Override PartName="/ppt/media/image29.jpeg" ContentType="image/jpeg"/>
  <Override PartName="/ppt/media/image8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9.png" ContentType="image/png"/>
  <Override PartName="/ppt/media/image9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2.png" ContentType="image/png"/>
  <Override PartName="/ppt/media/image13.png" ContentType="image/png"/>
  <Override PartName="/ppt/media/image3.jpeg" ContentType="image/jpeg"/>
  <Override PartName="/ppt/media/image37.jpeg" ContentType="image/jpeg"/>
  <Override PartName="/ppt/media/image4.jpeg" ContentType="image/jpeg"/>
  <Override PartName="/ppt/media/image40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03A6-86A7-4134-814B-C7B28758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D390-0F55-4A91-BE4F-B14FE73A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BAD6-DC74-4D83-8ED4-F5E674E5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ACFD-E105-488F-89EE-249129FF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DA11-6193-45B8-BEF7-A153333A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D3E8-E10A-4622-83D4-FEEDA1D8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8C67-BA48-4809-BAFF-4F98650E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E240-F409-4C55-BBA5-27DE1264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1CEC-1B72-472D-8CF1-AD434BF7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2241-E7E4-48C8-B25C-722F5B5D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E2A5-5F86-40F0-88DF-19A3F717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C031-3316-4B42-8CB3-3E5CF632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AD65-D3EC-4857-84C4-B29D8C11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CFAA-FC3F-4653-9FE8-193E0C4D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FDD4-8881-4ADA-8E47-ED5A3759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CA9C-6187-45DB-AA6A-B832B8BF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9E7D-89A3-474E-9FB8-3DE8FF9B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F482-38F5-434C-B944-B69594DE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27D9-737C-44C7-8B6E-685EB75C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DC94-64AB-4AFA-9F7B-F08AD8F2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04C5-DA29-41A0-BBED-F766ABFC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968F-99CD-492F-8443-E60E26F1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89DA-ECDA-4D8F-8992-96C59721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D740-80D6-4E6B-A7EF-76C6D6E9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D7AF-C61E-4F12-81E2-3BCF06E0F1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9D86-6657-4FAE-AAA3-0B4F3226DD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0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4920" y="475920"/>
            <a:ext cx="66927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4360" y="3212640"/>
            <a:ext cx="8353440" cy="34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981000"/>
            <a:ext cx="885672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Азбука дорожных нау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5148360" y="5157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2627280" y="1268280"/>
            <a:ext cx="3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580000" y="5589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987640" y="508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395280" y="6093000"/>
            <a:ext cx="4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3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2916360" y="5084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3419640" y="544500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250920" y="6093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1" name="Picture 4" descr="290920083"/>
          <p:cNvPicPr/>
          <p:nvPr/>
        </p:nvPicPr>
        <p:blipFill>
          <a:blip r:embed="rId1"/>
          <a:stretch/>
        </p:blipFill>
        <p:spPr>
          <a:xfrm>
            <a:off x="684360" y="765000"/>
            <a:ext cx="698328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4" name="Picture 4" descr="119412_avto"/>
          <p:cNvPicPr/>
          <p:nvPr/>
        </p:nvPicPr>
        <p:blipFill>
          <a:blip r:embed="rId1"/>
          <a:stretch/>
        </p:blipFill>
        <p:spPr>
          <a:xfrm>
            <a:off x="900000" y="620640"/>
            <a:ext cx="7201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7" name="Picture 4" descr="25170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0" name="Picture 4" descr="f293a69c87d265090e4f5665cf8e0aa9-edcee43fbb39ad5aaf4794d1fa025c6e"/>
          <p:cNvPicPr/>
          <p:nvPr/>
        </p:nvPicPr>
        <p:blipFill>
          <a:blip r:embed="rId1"/>
          <a:stretch/>
        </p:blipFill>
        <p:spPr>
          <a:xfrm>
            <a:off x="611280" y="692280"/>
            <a:ext cx="727380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3" name="Picture 4" descr="001296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4720" y="-316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476000" y="909360"/>
            <a:ext cx="8209080" cy="56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116000" y="333360"/>
            <a:ext cx="748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разгадай кроссворд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6" name="Picture 4" descr="Child_190209"/>
          <p:cNvPicPr/>
          <p:nvPr/>
        </p:nvPicPr>
        <p:blipFill>
          <a:blip r:embed="rId1"/>
          <a:stretch/>
        </p:blipFill>
        <p:spPr>
          <a:xfrm>
            <a:off x="324000" y="1397160"/>
            <a:ext cx="813564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9" name="Picture 4" descr="detib"/>
          <p:cNvPicPr/>
          <p:nvPr/>
        </p:nvPicPr>
        <p:blipFill>
          <a:blip r:embed="rId1"/>
          <a:stretch/>
        </p:blipFill>
        <p:spPr>
          <a:xfrm>
            <a:off x="1305000" y="809640"/>
            <a:ext cx="65340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0" name="Рисунок 1" descr="img107.jpg"/>
          <p:cNvPicPr/>
          <p:nvPr/>
        </p:nvPicPr>
        <p:blipFill>
          <a:blip r:embed="rId1"/>
          <a:stretch/>
        </p:blipFill>
        <p:spPr>
          <a:xfrm>
            <a:off x="3809880" y="457200"/>
            <a:ext cx="4876920" cy="5867280"/>
          </a:xfrm>
          <a:prstGeom prst="rect">
            <a:avLst/>
          </a:prstGeom>
          <a:ln w="0">
            <a:noFill/>
          </a:ln>
        </p:spPr>
      </p:pic>
      <p:pic>
        <p:nvPicPr>
          <p:cNvPr id="1541" name="Заголовок 2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3017520" cy="1914840"/>
          </a:xfrm>
          <a:prstGeom prst="rect">
            <a:avLst/>
          </a:prstGeom>
          <a:ln w="0">
            <a:noFill/>
          </a:ln>
        </p:spPr>
      </p:pic>
      <p:sp>
        <p:nvSpPr>
          <p:cNvPr id="1542" name="PlaceHolder 1"/>
          <p:cNvSpPr>
            <a:spLocks noGrp="1"/>
          </p:cNvSpPr>
          <p:nvPr>
            <p:ph/>
          </p:nvPr>
        </p:nvSpPr>
        <p:spPr>
          <a:xfrm>
            <a:off x="684000" y="2060640"/>
            <a:ext cx="3095640" cy="42480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17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чтобы ходить ничего не боясь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думали люди проезжую час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елать там нечег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шим –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еших своя пешеходная часть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76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нету дороги  проезжи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3851280" y="380880"/>
            <a:ext cx="4835520" cy="5943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4" name="Рисунок 5" descr="img007.jpg"/>
          <p:cNvPicPr/>
          <p:nvPr/>
        </p:nvPicPr>
        <p:blipFill>
          <a:blip r:embed="rId3"/>
          <a:stretch/>
        </p:blipFill>
        <p:spPr>
          <a:xfrm>
            <a:off x="108000" y="5300640"/>
            <a:ext cx="990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5" name="Picture 2" descr=""/>
          <p:cNvPicPr/>
          <p:nvPr/>
        </p:nvPicPr>
        <p:blipFill>
          <a:blip r:embed="rId1"/>
          <a:srcRect l="0" t="0" r="10001" b="0"/>
          <a:stretch/>
        </p:blipFill>
        <p:spPr>
          <a:xfrm>
            <a:off x="838080" y="1066680"/>
            <a:ext cx="6934320" cy="5410440"/>
          </a:xfrm>
          <a:prstGeom prst="rect">
            <a:avLst/>
          </a:prstGeom>
          <a:ln w="0">
            <a:noFill/>
          </a:ln>
        </p:spPr>
      </p:pic>
      <p:pic>
        <p:nvPicPr>
          <p:cNvPr id="1546" name="Заголовок 2" descr=""/>
          <p:cNvPicPr/>
          <p:nvPr/>
        </p:nvPicPr>
        <p:blipFill>
          <a:blip r:embed="rId2"/>
          <a:stretch/>
        </p:blipFill>
        <p:spPr>
          <a:xfrm>
            <a:off x="225360" y="225360"/>
            <a:ext cx="8315280" cy="811440"/>
          </a:xfrm>
          <a:prstGeom prst="rect">
            <a:avLst/>
          </a:prstGeom>
          <a:ln w="0">
            <a:noFill/>
          </a:ln>
        </p:spPr>
      </p:pic>
      <p:pic>
        <p:nvPicPr>
          <p:cNvPr id="1547" name="Рисунок 3" descr="img007.jpg"/>
          <p:cNvPicPr/>
          <p:nvPr/>
        </p:nvPicPr>
        <p:blipFill>
          <a:blip r:embed="rId3"/>
          <a:stretch/>
        </p:blipFill>
        <p:spPr>
          <a:xfrm>
            <a:off x="7848720" y="5334120"/>
            <a:ext cx="9144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Заголовок 1" descr=""/>
          <p:cNvPicPr/>
          <p:nvPr/>
        </p:nvPicPr>
        <p:blipFill>
          <a:blip r:embed="rId1"/>
          <a:stretch/>
        </p:blipFill>
        <p:spPr>
          <a:xfrm>
            <a:off x="500040" y="378000"/>
            <a:ext cx="8193240" cy="731520"/>
          </a:xfrm>
          <a:prstGeom prst="rect">
            <a:avLst/>
          </a:prstGeom>
          <a:ln w="0">
            <a:noFill/>
          </a:ln>
        </p:spPr>
      </p:pic>
      <p:pic>
        <p:nvPicPr>
          <p:cNvPr id="1549" name="Рисунок 2" descr="img183.jpg"/>
          <p:cNvPicPr/>
          <p:nvPr/>
        </p:nvPicPr>
        <p:blipFill>
          <a:blip r:embed="rId2"/>
          <a:srcRect l="21279" t="27190" r="7415" b="52097"/>
          <a:stretch/>
        </p:blipFill>
        <p:spPr>
          <a:xfrm>
            <a:off x="1143000" y="990720"/>
            <a:ext cx="6858000" cy="4876560"/>
          </a:xfrm>
          <a:prstGeom prst="rect">
            <a:avLst/>
          </a:prstGeom>
          <a:ln w="0">
            <a:noFill/>
          </a:ln>
        </p:spPr>
      </p:pic>
      <p:pic>
        <p:nvPicPr>
          <p:cNvPr id="1550" name="Рисунок 3" descr="img007.jpg"/>
          <p:cNvPicPr/>
          <p:nvPr/>
        </p:nvPicPr>
        <p:blipFill>
          <a:blip r:embed="rId3"/>
          <a:stretch/>
        </p:blipFill>
        <p:spPr>
          <a:xfrm>
            <a:off x="7848720" y="525780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1" name="Рисунок 1" descr="img156.jpg"/>
          <p:cNvPicPr/>
          <p:nvPr/>
        </p:nvPicPr>
        <p:blipFill>
          <a:blip r:embed="rId1"/>
          <a:stretch/>
        </p:blipFill>
        <p:spPr>
          <a:xfrm>
            <a:off x="1981080" y="1066680"/>
            <a:ext cx="4724640" cy="4876920"/>
          </a:xfrm>
          <a:prstGeom prst="rect">
            <a:avLst/>
          </a:prstGeom>
          <a:ln w="0">
            <a:noFill/>
          </a:ln>
        </p:spPr>
      </p:pic>
      <p:pic>
        <p:nvPicPr>
          <p:cNvPr id="1552" name="Заголовок 2" descr=""/>
          <p:cNvPicPr/>
          <p:nvPr/>
        </p:nvPicPr>
        <p:blipFill>
          <a:blip r:embed="rId2"/>
          <a:stretch/>
        </p:blipFill>
        <p:spPr>
          <a:xfrm>
            <a:off x="817560" y="268200"/>
            <a:ext cx="7631280" cy="1109880"/>
          </a:xfrm>
          <a:prstGeom prst="rect">
            <a:avLst/>
          </a:prstGeom>
          <a:ln w="0">
            <a:noFill/>
          </a:ln>
        </p:spPr>
      </p:pic>
      <p:pic>
        <p:nvPicPr>
          <p:cNvPr id="1553" name="Рисунок 3" descr="img007.jpg"/>
          <p:cNvPicPr/>
          <p:nvPr/>
        </p:nvPicPr>
        <p:blipFill>
          <a:blip r:embed="rId3"/>
          <a:stretch/>
        </p:blipFill>
        <p:spPr>
          <a:xfrm>
            <a:off x="7772400" y="5257800"/>
            <a:ext cx="8380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Содержимое 3" descr="img175.jpg"/>
          <p:cNvPicPr/>
          <p:nvPr/>
        </p:nvPicPr>
        <p:blipFill>
          <a:blip r:embed="rId1">
            <a:lum contrast="20000"/>
          </a:blip>
          <a:srcRect l="4416" t="32932" r="61151" b="58936"/>
          <a:stretch/>
        </p:blipFill>
        <p:spPr>
          <a:xfrm>
            <a:off x="5364000" y="227664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1555" name="Заголовок 1" descr=""/>
          <p:cNvPicPr/>
          <p:nvPr/>
        </p:nvPicPr>
        <p:blipFill>
          <a:blip r:embed="rId2"/>
          <a:stretch/>
        </p:blipFill>
        <p:spPr>
          <a:xfrm>
            <a:off x="500040" y="378000"/>
            <a:ext cx="8193240" cy="890280"/>
          </a:xfrm>
          <a:prstGeom prst="rect">
            <a:avLst/>
          </a:prstGeom>
          <a:ln w="0">
            <a:noFill/>
          </a:ln>
        </p:spPr>
      </p:pic>
      <p:pic>
        <p:nvPicPr>
          <p:cNvPr id="1556" name="Рисунок 5" descr="img175.jpg"/>
          <p:cNvPicPr/>
          <p:nvPr/>
        </p:nvPicPr>
        <p:blipFill>
          <a:blip r:embed="rId3">
            <a:lum contrast="20000"/>
          </a:blip>
          <a:srcRect l="8757" t="10716" r="69617" b="72165"/>
          <a:stretch/>
        </p:blipFill>
        <p:spPr>
          <a:xfrm>
            <a:off x="609480" y="1143000"/>
            <a:ext cx="4572000" cy="4876920"/>
          </a:xfrm>
          <a:prstGeom prst="rect">
            <a:avLst/>
          </a:prstGeom>
          <a:ln w="0">
            <a:noFill/>
          </a:ln>
        </p:spPr>
      </p:pic>
      <p:pic>
        <p:nvPicPr>
          <p:cNvPr id="1557" name="Рисунок 6" descr="img007.jpg"/>
          <p:cNvPicPr/>
          <p:nvPr/>
        </p:nvPicPr>
        <p:blipFill>
          <a:blip r:embed="rId4"/>
          <a:stretch/>
        </p:blipFill>
        <p:spPr>
          <a:xfrm>
            <a:off x="7924680" y="5181480"/>
            <a:ext cx="7621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8" name="Рисунок 1" descr="img175.jpg"/>
          <p:cNvPicPr/>
          <p:nvPr/>
        </p:nvPicPr>
        <p:blipFill>
          <a:blip r:embed="rId1">
            <a:lum contrast="20000"/>
          </a:blip>
          <a:srcRect l="39220" t="9074" r="13719" b="61905"/>
          <a:stretch/>
        </p:blipFill>
        <p:spPr>
          <a:xfrm>
            <a:off x="1979640" y="1484280"/>
            <a:ext cx="5334120" cy="4724280"/>
          </a:xfrm>
          <a:prstGeom prst="rect">
            <a:avLst/>
          </a:prstGeom>
          <a:ln w="0">
            <a:noFill/>
          </a:ln>
        </p:spPr>
      </p:pic>
      <p:pic>
        <p:nvPicPr>
          <p:cNvPr id="1559" name="Заголовок 2" descr=""/>
          <p:cNvPicPr/>
          <p:nvPr/>
        </p:nvPicPr>
        <p:blipFill>
          <a:blip r:embed="rId2"/>
          <a:stretch/>
        </p:blipFill>
        <p:spPr>
          <a:xfrm>
            <a:off x="1212840" y="450720"/>
            <a:ext cx="6492960" cy="817560"/>
          </a:xfrm>
          <a:prstGeom prst="rect">
            <a:avLst/>
          </a:prstGeom>
          <a:ln w="0">
            <a:noFill/>
          </a:ln>
        </p:spPr>
      </p:pic>
      <p:pic>
        <p:nvPicPr>
          <p:cNvPr id="1560" name="Рисунок 3" descr="img007.jpg"/>
          <p:cNvPicPr/>
          <p:nvPr/>
        </p:nvPicPr>
        <p:blipFill>
          <a:blip r:embed="rId3"/>
          <a:stretch/>
        </p:blipFill>
        <p:spPr>
          <a:xfrm>
            <a:off x="7772400" y="5257800"/>
            <a:ext cx="838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539640" y="476280"/>
            <a:ext cx="8425080" cy="59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удьте очень осторожны,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Уважайте каждый знак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едь без знаков на дорог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ам не обойтись никак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971640" y="765000"/>
            <a:ext cx="7813440" cy="14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Безопасно ли в показанной ситуации начать переходить проезжую часть дороги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6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31036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186920" y="6608880"/>
            <a:ext cx="85410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196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250920" y="404640"/>
            <a:ext cx="8510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258560" y="214200"/>
            <a:ext cx="756108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Ты вышел из дома с велосипедом. Где ты поедешь: по тротуару или по краю проезжей части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9" name="" descr=""/>
          <p:cNvPicPr/>
          <p:nvPr/>
        </p:nvPicPr>
        <p:blipFill>
          <a:blip r:embed="rId1"/>
          <a:stretch/>
        </p:blipFill>
        <p:spPr>
          <a:xfrm>
            <a:off x="1763640" y="27082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403280" y="981000"/>
            <a:ext cx="71452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Рано утром ты один на дороге. Необходимо ли соблюдать правила дорожного движения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2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2050560" y="214200"/>
            <a:ext cx="689292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Как ты здесь перейдёшь на другую сторону дороги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5" name="" descr=""/>
          <p:cNvPicPr/>
          <p:nvPr/>
        </p:nvPicPr>
        <p:blipFill>
          <a:blip r:embed="rId1"/>
          <a:stretch/>
        </p:blipFill>
        <p:spPr>
          <a:xfrm>
            <a:off x="2916360" y="278136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1547280" y="1125360"/>
            <a:ext cx="7396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Как ты поступишь, если при переходе через дорогу зелёный сигнал светофора сменился на красный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8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655308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30872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 правильно пересечь проезжую часть дороги по пешеходному переходу с велосипедом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1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1692000" y="213840"/>
            <a:ext cx="725148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 здесь безопаснее перейти на другую сторону дорог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4" name="" descr=""/>
          <p:cNvPicPr/>
          <p:nvPr/>
        </p:nvPicPr>
        <p:blipFill>
          <a:blip r:embed="rId1"/>
          <a:stretch/>
        </p:blipFill>
        <p:spPr>
          <a:xfrm>
            <a:off x="3419640" y="29242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1763280" y="549000"/>
            <a:ext cx="71802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Ты вышел из автобуса. Где ты перейдёшь проезжую часть дороги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7" name="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1042920" y="-892440"/>
            <a:ext cx="77932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встречу тебе группа пешеходов переходит дорогу. По какой траектории ты перейдёшь дорогу в этой ситуаци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0" name="" descr=""/>
          <p:cNvPicPr/>
          <p:nvPr/>
        </p:nvPicPr>
        <p:blipFill>
          <a:blip r:embed="rId1"/>
          <a:stretch/>
        </p:blipFill>
        <p:spPr>
          <a:xfrm>
            <a:off x="3708360" y="32004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1892160" y="-316080"/>
            <a:ext cx="725184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Переходя на другую сторону дороги по подземному пешеходному переходу, являешься ли ты пешеходом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3" name="" descr=""/>
          <p:cNvPicPr/>
          <p:nvPr/>
        </p:nvPicPr>
        <p:blipFill>
          <a:blip r:embed="rId1"/>
          <a:stretch/>
        </p:blipFill>
        <p:spPr>
          <a:xfrm>
            <a:off x="2987640" y="270828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1979280" y="214200"/>
            <a:ext cx="69642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азрешено ли тебе здесь идти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6" name="" descr=""/>
          <p:cNvPicPr/>
          <p:nvPr/>
        </p:nvPicPr>
        <p:blipFill>
          <a:blip r:embed="rId1"/>
          <a:stretch/>
        </p:blipFill>
        <p:spPr>
          <a:xfrm>
            <a:off x="2627280" y="2997360"/>
            <a:ext cx="487692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172360" y="1700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112920" y="1622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1076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547640" y="4759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Разрешено ли ходить по проезжей части дороги во дворах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9" name="" descr=""/>
          <p:cNvPicPr/>
          <p:nvPr/>
        </p:nvPicPr>
        <p:blipFill>
          <a:blip r:embed="rId1"/>
          <a:stretch/>
        </p:blipFill>
        <p:spPr>
          <a:xfrm>
            <a:off x="1979640" y="28526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476360" y="691920"/>
            <a:ext cx="8531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Дорожные ситуации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2" name="" descr=""/>
          <p:cNvPicPr/>
          <p:nvPr/>
        </p:nvPicPr>
        <p:blipFill>
          <a:blip r:embed="rId1"/>
          <a:stretch/>
        </p:blipFill>
        <p:spPr>
          <a:xfrm>
            <a:off x="2340000" y="3357720"/>
            <a:ext cx="4681440" cy="3095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5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7774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064360" cy="59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Пусть улицы всех городов и деревень будут для вас безопасными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Вы уже знаете, что дорога может быть доброй и безопасной только для тех, кто не нарушает её законов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ubTitle"/>
          </p:nvPr>
        </p:nvSpPr>
        <p:spPr>
          <a:xfrm>
            <a:off x="147636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9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8928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0" name="" descr=""/>
          <p:cNvPicPr/>
          <p:nvPr/>
        </p:nvPicPr>
        <p:blipFill>
          <a:blip r:embed="rId2"/>
          <a:stretch/>
        </p:blipFill>
        <p:spPr>
          <a:xfrm>
            <a:off x="900000" y="691920"/>
            <a:ext cx="68421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1609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1609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1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971640" y="2781360"/>
            <a:ext cx="7200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61080" y="11253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01680" y="6098760"/>
            <a:ext cx="8540640" cy="2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298944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42108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284720" y="1268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852720" y="1268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716360" y="1268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421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852720" y="17017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14836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284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716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58000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01344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445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87708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30872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740720" y="1701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8172360" y="1701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385272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98944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421080" y="21337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284720" y="21337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72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740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30872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6877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01344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44508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58000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14836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716360" y="2997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284720" y="2997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852720" y="2997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58000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14836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71636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284720" y="256536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421080" y="2565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852720" y="256536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471636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284720" y="342900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852720" y="3860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28472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1636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148360" y="3860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01344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558000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852720" y="342900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421080" y="34290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445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877080" y="3860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852720" y="426564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42108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98944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55600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2400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284720" y="426564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716360" y="426564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98944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42108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852720" y="4697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28472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148360" y="4697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471636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5580000" y="4697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421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28472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852720" y="512928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52720" y="2131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71636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284720" y="2563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148360" y="512928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716360" y="29955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58000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01344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445080" y="512928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580000" y="385920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558000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14836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01344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445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852720" y="5560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877080" y="5129280"/>
            <a:ext cx="3603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284720" y="5560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71636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87708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7308720" y="5560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41964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852720" y="6019920"/>
            <a:ext cx="3589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98764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55600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124000" y="601992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692360" y="6019920"/>
            <a:ext cx="35856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26036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26920" y="6021360"/>
            <a:ext cx="358920" cy="360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627280" y="1268280"/>
            <a:ext cx="3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113280" y="164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610000" y="208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13280" y="25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47364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113280" y="33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47364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818000" y="431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61000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989800" y="50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35016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50000" y="5969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042000" y="10922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1:59:57Z</dcterms:created>
  <dc:creator>www.PHILka.RU</dc:creator>
  <dc:description/>
  <dc:language>en-US</dc:language>
  <cp:lastModifiedBy>www.PHILka.RU</cp:lastModifiedBy>
  <dcterms:modified xsi:type="dcterms:W3CDTF">2012-04-07T05:03:32Z</dcterms:modified>
  <cp:revision>19</cp:revision>
  <dc:subject/>
  <dc:title>Слайд 1</dc:title>
</cp:coreProperties>
</file>