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png" ContentType="image/png"/>
  <Override PartName="/ppt/media/image34.jpeg" ContentType="image/jpeg"/>
  <Override PartName="/ppt/media/image28.jpeg" ContentType="image/jpeg"/>
  <Override PartName="/ppt/media/image11.png" ContentType="image/pn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9.png" ContentType="image/pn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4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FAC-A3DB-461B-8AFB-D2C611DF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7A9-A4AB-454E-8B30-8EC82048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337-4643-49E5-9C83-8AC99F32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484-0ED1-4C3C-9934-9F72144E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8F95-61AE-452F-8A93-52CA547B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2F01-53C0-48F8-940F-AD962792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C7BA-3DFB-4EE0-965F-B2C1BC82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553A-D065-44B1-AE25-290A84DB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EEC2-076D-4B9E-BFE7-24D08C72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3717-F41A-44FF-8CB8-F79A6219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9B9F-6122-4C50-BEE6-74CCAA85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173-5612-4751-9DF5-CC7C8359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0249-EAEE-4CFE-8C7D-1EA040A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7A46-F5FA-497D-B9C3-1ECA0BF3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D39B-60C8-40C8-98BC-C7E5F749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13A9-507B-4632-AB80-93F66D89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D32C-11CA-40C0-B925-2EC5D013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EB8-405C-49B3-BE33-F8493FF3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EAB-DD96-4685-834C-47EE63C3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5B6-6F94-4B4A-B560-331313F6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4CC-5331-415B-B123-D905E1F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3ED-3188-46CD-90A0-857E44CB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999-FB07-4557-B04D-4AE3D4E0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B0F-1A19-4510-ADBD-A21FD263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D21-69DA-4ABC-A5AE-6D208C8236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81AA-94C7-4F67-B957-592E0CE08D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0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6927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3212640"/>
            <a:ext cx="8353440" cy="34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85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Азбука дорожных на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48360" y="5157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27280" y="1268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80000" y="5589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98764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95280" y="609300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916360" y="5084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419640" y="544500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5092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1" name="Picture 4" descr="290920083"/>
          <p:cNvPicPr/>
          <p:nvPr/>
        </p:nvPicPr>
        <p:blipFill>
          <a:blip r:embed="rId1"/>
          <a:stretch/>
        </p:blipFill>
        <p:spPr>
          <a:xfrm>
            <a:off x="684360" y="765000"/>
            <a:ext cx="69832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4" name="Picture 4" descr="119412_avto"/>
          <p:cNvPicPr/>
          <p:nvPr/>
        </p:nvPicPr>
        <p:blipFill>
          <a:blip r:embed="rId1"/>
          <a:stretch/>
        </p:blipFill>
        <p:spPr>
          <a:xfrm>
            <a:off x="900000" y="620640"/>
            <a:ext cx="7201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7" name="Picture 4" descr="2517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0" name="Picture 4" descr="f293a69c87d265090e4f5665cf8e0aa9-edcee43fbb39ad5aaf4794d1fa025c6e"/>
          <p:cNvPicPr/>
          <p:nvPr/>
        </p:nvPicPr>
        <p:blipFill>
          <a:blip r:embed="rId1"/>
          <a:stretch/>
        </p:blipFill>
        <p:spPr>
          <a:xfrm>
            <a:off x="611280" y="69228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3" name="Picture 4" descr="001296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472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000" y="909360"/>
            <a:ext cx="820908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16000" y="33336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гадай кроссвор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6" name="Picture 4" descr="Child_190209"/>
          <p:cNvPicPr/>
          <p:nvPr/>
        </p:nvPicPr>
        <p:blipFill>
          <a:blip r:embed="rId1"/>
          <a:stretch/>
        </p:blipFill>
        <p:spPr>
          <a:xfrm>
            <a:off x="324000" y="1397160"/>
            <a:ext cx="81356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9" name="Picture 4" descr="detib"/>
          <p:cNvPicPr/>
          <p:nvPr/>
        </p:nvPicPr>
        <p:blipFill>
          <a:blip r:embed="rId1"/>
          <a:stretch/>
        </p:blipFill>
        <p:spPr>
          <a:xfrm>
            <a:off x="1305000" y="809640"/>
            <a:ext cx="653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Рисунок 1" descr="img107.jpg"/>
          <p:cNvPicPr/>
          <p:nvPr/>
        </p:nvPicPr>
        <p:blipFill>
          <a:blip r:embed="rId1"/>
          <a:stretch/>
        </p:blipFill>
        <p:spPr>
          <a:xfrm>
            <a:off x="3809880" y="457200"/>
            <a:ext cx="4876920" cy="5867280"/>
          </a:xfrm>
          <a:prstGeom prst="rect">
            <a:avLst/>
          </a:prstGeom>
          <a:ln w="0">
            <a:noFill/>
          </a:ln>
        </p:spPr>
      </p:pic>
      <p:pic>
        <p:nvPicPr>
          <p:cNvPr id="1541" name="Заголовок 2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017520" cy="191484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/>
          </p:nvPr>
        </p:nvSpPr>
        <p:spPr>
          <a:xfrm>
            <a:off x="684000" y="2060640"/>
            <a:ext cx="3095640" cy="4248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обы ходить ничего не бояс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ли люди проезжую ча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лать там нече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им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ших своя пешеходная ча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ету дороги  проезж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851280" y="380880"/>
            <a:ext cx="4835520" cy="594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4" name="Рисунок 5" descr="img007.jpg"/>
          <p:cNvPicPr/>
          <p:nvPr/>
        </p:nvPicPr>
        <p:blipFill>
          <a:blip r:embed="rId3"/>
          <a:stretch/>
        </p:blipFill>
        <p:spPr>
          <a:xfrm>
            <a:off x="108000" y="530064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2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838080" y="1066680"/>
            <a:ext cx="6934320" cy="5410440"/>
          </a:xfrm>
          <a:prstGeom prst="rect">
            <a:avLst/>
          </a:prstGeom>
          <a:ln w="0">
            <a:noFill/>
          </a:ln>
        </p:spPr>
      </p:pic>
      <p:pic>
        <p:nvPicPr>
          <p:cNvPr id="1546" name="Заголовок 2" descr=""/>
          <p:cNvPicPr/>
          <p:nvPr/>
        </p:nvPicPr>
        <p:blipFill>
          <a:blip r:embed="rId2"/>
          <a:stretch/>
        </p:blipFill>
        <p:spPr>
          <a:xfrm>
            <a:off x="225360" y="225360"/>
            <a:ext cx="8315280" cy="811440"/>
          </a:xfrm>
          <a:prstGeom prst="rect">
            <a:avLst/>
          </a:prstGeom>
          <a:ln w="0">
            <a:noFill/>
          </a:ln>
        </p:spPr>
      </p:pic>
      <p:pic>
        <p:nvPicPr>
          <p:cNvPr id="1547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3341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Заголовок 1" descr=""/>
          <p:cNvPicPr/>
          <p:nvPr/>
        </p:nvPicPr>
        <p:blipFill>
          <a:blip r:embed="rId1"/>
          <a:stretch/>
        </p:blipFill>
        <p:spPr>
          <a:xfrm>
            <a:off x="500040" y="378000"/>
            <a:ext cx="8193240" cy="731520"/>
          </a:xfrm>
          <a:prstGeom prst="rect">
            <a:avLst/>
          </a:prstGeom>
          <a:ln w="0">
            <a:noFill/>
          </a:ln>
        </p:spPr>
      </p:pic>
      <p:pic>
        <p:nvPicPr>
          <p:cNvPr id="1549" name="Рисунок 2" descr="img183.jpg"/>
          <p:cNvPicPr/>
          <p:nvPr/>
        </p:nvPicPr>
        <p:blipFill>
          <a:blip r:embed="rId2"/>
          <a:srcRect l="21279" t="27190" r="7415" b="52097"/>
          <a:stretch/>
        </p:blipFill>
        <p:spPr>
          <a:xfrm>
            <a:off x="1143000" y="990720"/>
            <a:ext cx="6858000" cy="4876560"/>
          </a:xfrm>
          <a:prstGeom prst="rect">
            <a:avLst/>
          </a:prstGeom>
          <a:ln w="0">
            <a:noFill/>
          </a:ln>
        </p:spPr>
      </p:pic>
      <p:pic>
        <p:nvPicPr>
          <p:cNvPr id="1550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2578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Рисунок 1" descr="img156.jpg"/>
          <p:cNvPicPr/>
          <p:nvPr/>
        </p:nvPicPr>
        <p:blipFill>
          <a:blip r:embed="rId1"/>
          <a:stretch/>
        </p:blipFill>
        <p:spPr>
          <a:xfrm>
            <a:off x="1981080" y="1066680"/>
            <a:ext cx="4724640" cy="4876920"/>
          </a:xfrm>
          <a:prstGeom prst="rect">
            <a:avLst/>
          </a:prstGeom>
          <a:ln w="0">
            <a:noFill/>
          </a:ln>
        </p:spPr>
      </p:pic>
      <p:pic>
        <p:nvPicPr>
          <p:cNvPr id="1552" name="Заголовок 2" descr=""/>
          <p:cNvPicPr/>
          <p:nvPr/>
        </p:nvPicPr>
        <p:blipFill>
          <a:blip r:embed="rId2"/>
          <a:stretch/>
        </p:blipFill>
        <p:spPr>
          <a:xfrm>
            <a:off x="817560" y="268200"/>
            <a:ext cx="7631280" cy="1109880"/>
          </a:xfrm>
          <a:prstGeom prst="rect">
            <a:avLst/>
          </a:prstGeom>
          <a:ln w="0">
            <a:noFill/>
          </a:ln>
        </p:spPr>
      </p:pic>
      <p:pic>
        <p:nvPicPr>
          <p:cNvPr id="1553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Содержимое 3" descr="img175.jpg"/>
          <p:cNvPicPr/>
          <p:nvPr/>
        </p:nvPicPr>
        <p:blipFill>
          <a:blip r:embed="rId1">
            <a:lum contrast="20000"/>
          </a:blip>
          <a:srcRect l="4416" t="32932" r="61151" b="58936"/>
          <a:stretch/>
        </p:blipFill>
        <p:spPr>
          <a:xfrm>
            <a:off x="5364000" y="227664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555" name="Заголовок 1" descr=""/>
          <p:cNvPicPr/>
          <p:nvPr/>
        </p:nvPicPr>
        <p:blipFill>
          <a:blip r:embed="rId2"/>
          <a:stretch/>
        </p:blipFill>
        <p:spPr>
          <a:xfrm>
            <a:off x="500040" y="378000"/>
            <a:ext cx="8193240" cy="890280"/>
          </a:xfrm>
          <a:prstGeom prst="rect">
            <a:avLst/>
          </a:prstGeom>
          <a:ln w="0">
            <a:noFill/>
          </a:ln>
        </p:spPr>
      </p:pic>
      <p:pic>
        <p:nvPicPr>
          <p:cNvPr id="1556" name="Рисунок 5" descr="img175.jpg"/>
          <p:cNvPicPr/>
          <p:nvPr/>
        </p:nvPicPr>
        <p:blipFill>
          <a:blip r:embed="rId3">
            <a:lum contrast="20000"/>
          </a:blip>
          <a:srcRect l="8757" t="10716" r="69617" b="72165"/>
          <a:stretch/>
        </p:blipFill>
        <p:spPr>
          <a:xfrm>
            <a:off x="609480" y="114300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1557" name="Рисунок 6" descr="img007.jpg"/>
          <p:cNvPicPr/>
          <p:nvPr/>
        </p:nvPicPr>
        <p:blipFill>
          <a:blip r:embed="rId4"/>
          <a:stretch/>
        </p:blipFill>
        <p:spPr>
          <a:xfrm>
            <a:off x="7924680" y="518148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Рисунок 1" descr="img175.jpg"/>
          <p:cNvPicPr/>
          <p:nvPr/>
        </p:nvPicPr>
        <p:blipFill>
          <a:blip r:embed="rId1">
            <a:lum contrast="20000"/>
          </a:blip>
          <a:srcRect l="39220" t="9074" r="13719" b="61905"/>
          <a:stretch/>
        </p:blipFill>
        <p:spPr>
          <a:xfrm>
            <a:off x="1979640" y="1484280"/>
            <a:ext cx="5334120" cy="4724280"/>
          </a:xfrm>
          <a:prstGeom prst="rect">
            <a:avLst/>
          </a:prstGeom>
          <a:ln w="0">
            <a:noFill/>
          </a:ln>
        </p:spPr>
      </p:pic>
      <p:pic>
        <p:nvPicPr>
          <p:cNvPr id="1559" name="Заголовок 2" descr=""/>
          <p:cNvPicPr/>
          <p:nvPr/>
        </p:nvPicPr>
        <p:blipFill>
          <a:blip r:embed="rId2"/>
          <a:stretch/>
        </p:blipFill>
        <p:spPr>
          <a:xfrm>
            <a:off x="1212840" y="450720"/>
            <a:ext cx="6492960" cy="817560"/>
          </a:xfrm>
          <a:prstGeom prst="rect">
            <a:avLst/>
          </a:prstGeom>
          <a:ln w="0">
            <a:noFill/>
          </a:ln>
        </p:spPr>
      </p:pic>
      <p:pic>
        <p:nvPicPr>
          <p:cNvPr id="1560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539640" y="476280"/>
            <a:ext cx="842508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дьте очень осторожн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важайте каждый зн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дь без знаков на дорог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м не обойтись ник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813440" cy="14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езопасно ли в показанной ситуации начать переходит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310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86920" y="6608880"/>
            <a:ext cx="85410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10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258560" y="214200"/>
            <a:ext cx="756108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дома с велосипедом. Где ты поедешь: по тротуару или по краю проезжей част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7145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но утром ты один на дороге. Необходимо ли соблюдать правила дорожного движения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050560" y="214200"/>
            <a:ext cx="6892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здесь перейдёшь на другую сторону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47280" y="112536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поступишь, если при переходе через дорогу зелёный сигнал светофора сменился на красный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8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553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правильно пересечь проезжую часть дороги по пешеходному переходу с велосипедом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692000" y="213840"/>
            <a:ext cx="725148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здесь безопаснее перейти на другую сторону дорог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4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7180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автобуса. Где ты перейдёш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042920" y="-892440"/>
            <a:ext cx="7793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встречу тебе группа пешеходов переходит дорогу. По какой траектории ты перейдёшь дорогу в этой ситуац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1"/>
          <a:stretch/>
        </p:blipFill>
        <p:spPr>
          <a:xfrm>
            <a:off x="370836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892160" y="-316080"/>
            <a:ext cx="725184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ереходя на другую сторону дороги по подземному пешеходному переходу, являешься ли ты пешеходом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3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979280" y="214200"/>
            <a:ext cx="6964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зрешено ли тебе здесь идт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8769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1700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12920" y="162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076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зрешено ли ходить по проезжей части дороги во дворах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853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Дорожные ситуаци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681440" cy="30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64360" cy="59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усть улицы всех городов и деревень будут для вас безопасными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ы уже знаете, что дорога может быть доброй и безопасной только для тех, кто не нарушает её законов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476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2"/>
          <a:stretch/>
        </p:blipFill>
        <p:spPr>
          <a:xfrm>
            <a:off x="900000" y="69192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60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60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971640" y="2781360"/>
            <a:ext cx="720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61080" y="1125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1:59:57Z</dcterms:created>
  <dc:creator>www.PHILka.RU</dc:creator>
  <dc:description/>
  <dc:language>en-US</dc:language>
  <cp:lastModifiedBy>www.PHILka.RU</cp:lastModifiedBy>
  <dcterms:modified xsi:type="dcterms:W3CDTF">2012-04-07T05:03:32Z</dcterms:modified>
  <cp:revision>19</cp:revision>
  <dc:subject/>
  <dc:title>Слайд 1</dc:title>
</cp:coreProperties>
</file>